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835-7B8E-4765-8CEE-CFC10C8E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4BB-E557-4E0F-B9A6-9DA885F0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D92-1A4D-4486-8398-17DB1116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73E-3042-4425-B523-0C453449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EA7-E914-4832-8782-60BE985F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779-077A-4854-AE8F-A016C3BE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76D-218C-4AF8-84D7-5FC369F3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A63-DF95-47E4-9497-FFA002E4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B73-E432-4165-9DA2-66071894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46C-FC79-4793-A48A-79B00DA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133-CB86-4616-8560-0768D9FF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0F3-0B0E-4418-B738-868339F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3A39-67C9-41DC-B9D1-D664F10E6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 в ЕГЭ и ГИА по информатике и 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ячеслав Роальдович Лещи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деи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имум/максимум на краю отрез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ет количества кор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ет количества целых точек, в которых функция имеет какое-либо значение (входит в диапазон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деи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85640" y="1295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ет количества целых точек, в которых функция положитель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92120" y="2276640"/>
            <a:ext cx="828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л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, b, t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:= 0; b :=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: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(t) &gt;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:= S +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л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ещ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на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(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ур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10529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в электронных таблиц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1280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 вычис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1628640"/>
          <a:ext cx="3382920" cy="4824720"/>
        </p:xfrm>
        <a:graphic>
          <a:graphicData uri="http://schemas.openxmlformats.org/drawingml/2006/table">
            <a:tbl>
              <a:tblPr/>
              <a:tblGrid>
                <a:gridCol w="1692000"/>
                <a:gridCol w="1690920"/>
              </a:tblGrid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 же 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828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те, что будет напечатано в результате выполнения следующего алгоритма, при введенном числе 10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47640" y="2349360"/>
          <a:ext cx="4969080" cy="3743640"/>
        </p:xfrm>
        <a:graphic>
          <a:graphicData uri="http://schemas.openxmlformats.org/drawingml/2006/table">
            <a:tbl>
              <a:tblPr/>
              <a:tblGrid>
                <a:gridCol w="2981520"/>
                <a:gridCol w="1987560"/>
              </a:tblGrid>
              <a:tr h="37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ал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ряд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нач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c05800"/>
                          </a:solidFill>
                          <a:latin typeface="Droid Sans Mono"/>
                        </a:rPr>
                        <a:t>це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в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m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:=</a:t>
                      </a:r>
                      <a:r>
                        <a:rPr b="1" i="1" lang="en-US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(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ыв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"результат="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кон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ал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5800"/>
                          </a:solidFill>
                          <a:latin typeface="Droid Sans Mono"/>
                        </a:rPr>
                        <a:t>це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(</a:t>
                      </a:r>
                      <a:r>
                        <a:rPr b="1" lang="ru-RU" sz="1400" spc="-1" strike="noStrike">
                          <a:solidFill>
                            <a:srgbClr val="c05800"/>
                          </a:solidFill>
                          <a:latin typeface="Droid Sans Mono"/>
                        </a:rPr>
                        <a:t>це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)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нач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есл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&lt;</a:t>
                      </a:r>
                      <a:r>
                        <a:rPr b="1" lang="en-US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зна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:= </a:t>
                      </a:r>
                      <a:r>
                        <a:rPr b="1" lang="ru-RU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1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инач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зна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:= </a:t>
                      </a:r>
                      <a:r>
                        <a:rPr b="1" i="1" lang="en-US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(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)+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. 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ыв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зна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,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нс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се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мотрим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2266920" y="1268280"/>
            <a:ext cx="3951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В14 (функци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497800" cy="4968720"/>
        </p:xfrm>
        <a:graphic>
          <a:graphicData uri="http://schemas.openxmlformats.org/drawingml/2006/table">
            <a:tbl>
              <a:tblPr/>
              <a:tblGrid>
                <a:gridCol w="3673440"/>
                <a:gridCol w="4824360"/>
              </a:tblGrid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йс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к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M A, B, T, M, R AS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 = -10: B = 3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 = A: R = F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 T = A TO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F(T) &gt; R THE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M = 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R = F(T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END I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INT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UNCTION F(x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F = 3*(x-4)*(x-4)+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r a,b,t,M,R :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unction F(x:integer):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 := 3*(x-4)*(x-4)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 := -10;  b := 34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 := a; R := F(a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 t := a to b do 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F(t) &gt; R) then 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 := 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 := F(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rite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В14 (функци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6" descr=""/>
          <p:cNvPicPr/>
          <p:nvPr/>
        </p:nvPicPr>
        <p:blipFill>
          <a:blip r:embed="rId1"/>
          <a:stretch/>
        </p:blipFill>
        <p:spPr>
          <a:xfrm>
            <a:off x="4680" y="1201680"/>
            <a:ext cx="913464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менты реш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м функцию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*(x*x-16)*(x*x-16)+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4)∙(x+4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значение выводитс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+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записывается в переменную М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ение аргумента в минимуме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у функции минимумов на этом отрезке: два (-4 и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ение какого аргумента запоминаетс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го аргумента (-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09:42:41Z</dcterms:created>
  <dc:creator>user</dc:creator>
  <dc:description/>
  <dc:language>en-US</dc:language>
  <cp:lastModifiedBy>Слава</cp:lastModifiedBy>
  <dcterms:modified xsi:type="dcterms:W3CDTF">2019-08-25T19:50:35Z</dcterms:modified>
  <cp:revision>11</cp:revision>
  <dc:subject/>
  <dc:title>Новое в ЕГЭ и ГИА по информатике и ИКТ</dc:title>
</cp:coreProperties>
</file>